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8C4B-4049-4357-8309-BE96E23FAC0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F7D8-9433-4998-983F-B8218D21987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2B9-E645-4523-AAFB-49C07621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CCC-3290-4B10-8F61-AA66D4D9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CBA-8FD1-41CF-9B5F-7453B0C9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DB0-75AA-489C-B94E-74B97103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E5C-A3BB-42BD-BA76-FF1CF4CF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C87-33CD-4663-A972-88F340F7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FBF-49A1-4DFA-864E-9D65C211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8EA-312D-4B43-8633-56AA44FC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806-74A8-4B6D-AE53-2F61B84C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B34-7D93-4625-B039-A2E94DE8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D58-6C45-4458-9B04-78B1C2DC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4A6-A938-421C-B67A-71EB57B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1974-FCFD-4038-8E22-216CBB000B40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2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Title 1"/>
          <p:cNvSpPr/>
          <p:nvPr/>
        </p:nvSpPr>
        <p:spPr>
          <a:xfrm>
            <a:off x="642960" y="333360"/>
            <a:ext cx="695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difying the stdio communication cha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636480" y="1803240"/>
            <a:ext cx="782316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QX applications two configuration files needs to be modif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_config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rk60n512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_config.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CFG_ENABLE_IODEBUG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wrk60n512.h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_DEFAULT_IO_CHANNEL   "iodebug: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_DEFAULT_IO_CHANNEL_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2" name="Title 1"/>
          <p:cNvSpPr/>
          <p:nvPr/>
        </p:nvSpPr>
        <p:spPr>
          <a:xfrm>
            <a:off x="642960" y="476280"/>
            <a:ext cx="58579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642960" y="1865160"/>
            <a:ext cx="7715160" cy="51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Manually build each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Using ”Batch build” to build a set of predefined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All EWARM MQX library projects have a set of predefine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atch bui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libraries for debug and releas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Debug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debug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Release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relea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5" name="Title 1"/>
          <p:cNvSpPr/>
          <p:nvPr/>
        </p:nvSpPr>
        <p:spPr>
          <a:xfrm>
            <a:off x="468360" y="260280"/>
            <a:ext cx="58579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68360" y="1700280"/>
            <a:ext cx="8032680" cy="11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e generated library and header files are copied to “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lib\&lt;board&gt;.iar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is done with the post-build command in EW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712800" y="3078000"/>
            <a:ext cx="522756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9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1"/>
          <p:cNvSpPr/>
          <p:nvPr/>
        </p:nvSpPr>
        <p:spPr>
          <a:xfrm>
            <a:off x="755640" y="1989000"/>
            <a:ext cx="1944720" cy="360360"/>
          </a:xfrm>
          <a:prstGeom prst="rect">
            <a:avLst/>
          </a:prstGeom>
          <a:solidFill>
            <a:srgbClr val="ffee74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755640" y="3213000"/>
            <a:ext cx="1944720" cy="360360"/>
          </a:xfrm>
          <a:prstGeom prst="rect">
            <a:avLst/>
          </a:prstGeom>
          <a:solidFill>
            <a:srgbClr val="dcdfe3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755640" y="3573360"/>
            <a:ext cx="1944720" cy="1727280"/>
          </a:xfrm>
          <a:prstGeom prst="rect">
            <a:avLst/>
          </a:prstGeom>
          <a:solidFill>
            <a:srgbClr val="f19e91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755640" y="5732640"/>
            <a:ext cx="1944720" cy="360360"/>
          </a:xfrm>
          <a:prstGeom prst="rect">
            <a:avLst/>
          </a:prstGeom>
          <a:solidFill>
            <a:srgbClr val="f19e91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"/>
          <p:cNvSpPr/>
          <p:nvPr/>
        </p:nvSpPr>
        <p:spPr>
          <a:xfrm>
            <a:off x="4259880" y="3716280"/>
            <a:ext cx="4138560" cy="916920"/>
          </a:xfrm>
          <a:prstGeom prst="rect">
            <a:avLst/>
          </a:prstGeom>
          <a:solidFill>
            <a:srgbClr val="f19e91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we have the EWARM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and this is the location whe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erent MQX modules will be bu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0"/>
          <p:cNvSpPr/>
          <p:nvPr/>
        </p:nvSpPr>
        <p:spPr>
          <a:xfrm>
            <a:off x="4238640" y="5168880"/>
            <a:ext cx="4181400" cy="916920"/>
          </a:xfrm>
          <a:prstGeom prst="rect">
            <a:avLst/>
          </a:prstGeom>
          <a:solidFill>
            <a:srgbClr val="dcdfe3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dule is built, then that libra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eader files will be copied to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lib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1"/>
          <p:cNvSpPr/>
          <p:nvPr/>
        </p:nvSpPr>
        <p:spPr>
          <a:xfrm>
            <a:off x="4238640" y="1989000"/>
            <a:ext cx="4181400" cy="1191240"/>
          </a:xfrm>
          <a:prstGeom prst="rect">
            <a:avLst/>
          </a:prstGeom>
          <a:solidFill>
            <a:srgbClr val="f9e181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where the EWARM MQ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 Workspace is located toget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different build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Down Arrow 3"/>
          <p:cNvSpPr/>
          <p:nvPr/>
        </p:nvSpPr>
        <p:spPr>
          <a:xfrm>
            <a:off x="8244000" y="2924280"/>
            <a:ext cx="431640" cy="10094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own Arrow 13"/>
          <p:cNvSpPr/>
          <p:nvPr/>
        </p:nvSpPr>
        <p:spPr>
          <a:xfrm>
            <a:off x="8244000" y="4508640"/>
            <a:ext cx="431640" cy="1008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1" name="Title 1"/>
          <p:cNvSpPr/>
          <p:nvPr/>
        </p:nvSpPr>
        <p:spPr>
          <a:xfrm>
            <a:off x="642960" y="476280"/>
            <a:ext cx="58579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atch bui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42960" y="1557360"/>
            <a:ext cx="7715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You can create any number of your own batch bui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250920" y="1979640"/>
            <a:ext cx="5592600" cy="40417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1"/>
          <p:cNvSpPr/>
          <p:nvPr/>
        </p:nvSpPr>
        <p:spPr>
          <a:xfrm>
            <a:off x="6227640" y="2421000"/>
            <a:ext cx="252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Batch buil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6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EWARM and MQ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071800"/>
            <a:ext cx="5715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MQX and its different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The MQX libr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EWARM Workspace for MQ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MQX build and project options in EW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714240" y="285840"/>
            <a:ext cx="63579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About Freescale MQ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468360" y="1484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scale MQX Real-Time Operating System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vides real-time performance within a small, configurable foot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X is a run-time library of functions that programs use to bec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multi-tasking appl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main features are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-orien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itecture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X suppor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ications and can be used with flexible embedded I/O product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8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42960" y="1773360"/>
            <a:ext cx="77151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 MT"/>
              </a:rPr>
              <a:t>SMQX contains of, among other things, 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Gill Sans MT"/>
              </a:rPr>
              <a:t>a set of libraries with their own A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SP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oard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upport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PSP,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Processor Support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RTCS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CP/IP stack (Communication Sui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MFS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bedded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HELL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hell for RT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_DDK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 device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_HDK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1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installation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33" name="TextBox 1"/>
          <p:cNvSpPr/>
          <p:nvPr/>
        </p:nvSpPr>
        <p:spPr>
          <a:xfrm>
            <a:off x="3231000" y="1989000"/>
            <a:ext cx="459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fs, mqx, rtcs, shell and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olders contain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urce code for the different modu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ampl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jects to build the module and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cumentation for the API’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ference manua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etting started guid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5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installation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"/>
          <p:cNvSpPr/>
          <p:nvPr/>
        </p:nvSpPr>
        <p:spPr>
          <a:xfrm>
            <a:off x="3230640" y="1989000"/>
            <a:ext cx="528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orkspace and configuration files to buil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your MQX librarie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ocation where built libraries and head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iles are copied to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rious tools that can be useful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for example tools to convert HTML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to C ar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9" name="Title 1"/>
          <p:cNvSpPr/>
          <p:nvPr/>
        </p:nvSpPr>
        <p:spPr>
          <a:xfrm>
            <a:off x="642960" y="404640"/>
            <a:ext cx="5857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Library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95280" y="1722600"/>
            <a:ext cx="77151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config\&lt;board&gt;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WARM Workspace file (*.ew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user_config.h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lib\&lt;board&gt;.iar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uilt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opied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Libraries are built with or without debug informati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ithout information: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&lt;lib&gt;_&lt;board&gt;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ith debug information: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&lt;lib&gt;_&lt;board&gt;_d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3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er_config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636480" y="1803240"/>
            <a:ext cx="782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-time configuration of all key Freescale MQX RTOS components (PSP, BSP, RTCS, MFS, USB, ...) is accomplished by editing the user_config.h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user_config.h includes other *_config.h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only modify the channel used for stdio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 UART is used, and we will change that to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bugger communication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6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er_config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636480" y="1803240"/>
            <a:ext cx="782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user_config.h requires that the  used MQ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ies are rebui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MQX User Guide for fine tu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 Configuring MQX at Compi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.1 MQX Compile-Time Configur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.2 Recommended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5:42Z</dcterms:modified>
  <cp:revision>224</cp:revision>
  <dc:subject/>
  <dc:title>Slide 1</dc:title>
</cp:coreProperties>
</file>