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DA34-DA7E-4238-83B1-1FFA958862C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883C-0FB3-4F89-A47D-0EEBFC410C5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C230-6B8F-452C-B810-B213B8DCA04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tshållare för bildnumm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F559-7F50-476C-9BA1-BFD65BDB8AF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DCA-7309-49E1-B124-F2422969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C9E-CAB4-43E7-9A35-0AD19C5A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9C9-925E-46FC-AE4A-7D657A29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34F-80A1-4602-93AC-CD3652FB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34D-32F5-4158-929D-4628309C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43D-DE0D-4AD0-9BCD-E9AB1638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299-CA39-4256-8BD2-5C3D5059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740-28D0-4F62-A84B-CC1E8B66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BC7-8AD4-4B2D-8BBC-3910FA95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8DC-D244-46E6-868D-A8F8C8DE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667-53D3-4849-944E-D12D0C52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37A-04C3-4F48-93A6-DADA8134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589D-AD94-42D9-86DF-1562DEEB744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3716280"/>
            <a:ext cx="691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Gill Sans MT"/>
              </a:rPr>
              <a:t>Cortex-M4 Kinetis</a:t>
            </a:r>
            <a:br>
              <a:rPr sz="2800"/>
            </a:br>
            <a:r>
              <a:rPr b="0" lang="sv-SE" sz="2800" spc="-1" strike="noStrike">
                <a:solidFill>
                  <a:srgbClr val="ffffff"/>
                </a:solidFill>
                <a:latin typeface="Gill Sans MT"/>
              </a:rPr>
              <a:t>Project Development</a:t>
            </a:r>
            <a:endParaRPr b="0" lang="en-US" sz="28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.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1" name="Title 1"/>
          <p:cNvSpPr/>
          <p:nvPr/>
        </p:nvSpPr>
        <p:spPr>
          <a:xfrm>
            <a:off x="324000" y="345960"/>
            <a:ext cx="68403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9900"/>
                </a:solidFill>
                <a:latin typeface="Gill Sans MT"/>
              </a:rPr>
              <a:t>Workspace and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250920" y="2133720"/>
            <a:ext cx="7715160" cy="40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e top level we work in is the 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Work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ach Workspace can contain zero or more 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ach project have one or more 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 Workspace can co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Projects of the same or different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Executable and librar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ach project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Sets its own unique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Specifies what groups/files to include in the bui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2352600" y="1382760"/>
            <a:ext cx="4981680" cy="4851360"/>
          </a:xfrm>
          <a:prstGeom prst="rect">
            <a:avLst/>
          </a:prstGeom>
          <a:ln w="0">
            <a:noFill/>
          </a:ln>
        </p:spPr>
      </p:pic>
      <p:sp>
        <p:nvSpPr>
          <p:cNvPr id="556" name="Title 1"/>
          <p:cNvSpPr/>
          <p:nvPr/>
        </p:nvSpPr>
        <p:spPr>
          <a:xfrm>
            <a:off x="2352600" y="303120"/>
            <a:ext cx="49816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Projec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8" name="Title 1"/>
          <p:cNvSpPr/>
          <p:nvPr/>
        </p:nvSpPr>
        <p:spPr>
          <a:xfrm>
            <a:off x="714240" y="28584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mbedded Workbench </a:t>
            </a:r>
            <a:br>
              <a:rPr sz="4000"/>
            </a:b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684360" y="2349360"/>
            <a:ext cx="482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the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asy to get started with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Intuitive project management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  and op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Widely used and popul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“Iarbuild.exe” and projec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MAKE fi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C:\Users\mariegy\AppData\Local\Microsoft\Windows\Temporary Internet Files\Content.IE5\FPBHNXZ2\MPj04428560000[1]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C:\Users\mariegy\AppData\Local\Microsoft\Windows\Temporary Internet Files\Content.IE5\82GCCA2N\MPj04430450000[1].jpg"/>
          <p:cNvPicPr/>
          <p:nvPr/>
        </p:nvPicPr>
        <p:blipFill>
          <a:blip r:embed="rId3"/>
          <a:stretch/>
        </p:blipFill>
        <p:spPr>
          <a:xfrm>
            <a:off x="5929200" y="214308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C:\Users\mariegy\AppData\Local\Microsoft\Windows\Temporary Internet Files\Content.IE5\FPBHNXZ2\MPj04007440000[1].jpg"/>
          <p:cNvPicPr/>
          <p:nvPr/>
        </p:nvPicPr>
        <p:blipFill>
          <a:blip r:embed="rId4"/>
          <a:stretch/>
        </p:blipFill>
        <p:spPr>
          <a:xfrm>
            <a:off x="5927760" y="4214880"/>
            <a:ext cx="3216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714240" y="28584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mbedded Workbench </a:t>
            </a:r>
            <a:br>
              <a:rPr sz="4000"/>
            </a:b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Debug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684360" y="2349360"/>
            <a:ext cx="482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the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asy to get started with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Well integrated with many emulator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Only for EWARM toda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“IARCspyBat.ex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xcellent for automated test run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  on HW as well as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C:\Users\mariegy\AppData\Local\Microsoft\Windows\Temporary Internet Files\Content.IE5\FPBHNXZ2\MPj04428560000[1]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Users\mariegy\AppData\Local\Microsoft\Windows\Temporary Internet Files\Content.IE5\82GCCA2N\MPj04430450000[1].jpg"/>
          <p:cNvPicPr/>
          <p:nvPr/>
        </p:nvPicPr>
        <p:blipFill>
          <a:blip r:embed="rId3"/>
          <a:stretch/>
        </p:blipFill>
        <p:spPr>
          <a:xfrm>
            <a:off x="5929200" y="214308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C:\Users\mariegy\AppData\Local\Microsoft\Windows\Temporary Internet Files\Content.IE5\FPBHNXZ2\MPj04007440000[1].jpg"/>
          <p:cNvPicPr/>
          <p:nvPr/>
        </p:nvPicPr>
        <p:blipFill>
          <a:blip r:embed="rId4"/>
          <a:stretch/>
        </p:blipFill>
        <p:spPr>
          <a:xfrm>
            <a:off x="5927760" y="4214880"/>
            <a:ext cx="3216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9"/>
          <p:cNvSpPr/>
          <p:nvPr/>
        </p:nvSpPr>
        <p:spPr>
          <a:xfrm>
            <a:off x="179280" y="2714760"/>
            <a:ext cx="561672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Start EW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Load the TSI example project in E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Change project options to use the P&amp;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Build the “RAM_128KB”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ownload and debug your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Run and try the four touch sensors on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Halt th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9"/>
          <p:cNvSpPr/>
          <p:nvPr/>
        </p:nvSpPr>
        <p:spPr>
          <a:xfrm>
            <a:off x="179280" y="2714760"/>
            <a:ext cx="56167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Have a closer look 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The debugger ‘View’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Arranging Windows and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Editor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ebug Log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Exit th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 (cont..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9"/>
          <p:cNvSpPr/>
          <p:nvPr/>
        </p:nvSpPr>
        <p:spPr>
          <a:xfrm>
            <a:off x="179280" y="2714760"/>
            <a:ext cx="56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ifferent variants of </a:t>
            </a:r>
            <a:r>
              <a:rPr b="1" lang="en-US" sz="2000" spc="-1" strike="noStrike">
                <a:solidFill>
                  <a:srgbClr val="595d63"/>
                </a:solidFill>
                <a:latin typeface="Gill Sans MT"/>
              </a:rPr>
              <a:t>prin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By default the Kinetis examples are setup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the serial port for print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If you like to use the built in Terminal IO Window</a:t>
            </a:r>
            <a:br>
              <a:rPr sz="2000"/>
            </a:b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in EWARM, then you just need to remove/exclude</a:t>
            </a:r>
            <a:br>
              <a:rPr sz="2000"/>
            </a:b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printf.c from you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 (cont..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82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071800"/>
            <a:ext cx="5715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Prepare for the train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bout Freescale MQ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bout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714240" y="285840"/>
            <a:ext cx="63579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Prep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250920" y="148428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6.40 or newer of Embedded Workbench for ARM (EWAR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ditions, except the 32K kickstart limited edition, will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X v3.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 and Ethernet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scale Tower kit with the serial module and K60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576360" y="3884760"/>
            <a:ext cx="799128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WARM and/or MQX is not installed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start by installing the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find them both under “Products” on the U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4297320" y="1484280"/>
            <a:ext cx="4749840" cy="4749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0" name="Title 1"/>
          <p:cNvSpPr/>
          <p:nvPr/>
        </p:nvSpPr>
        <p:spPr>
          <a:xfrm>
            <a:off x="642960" y="303120"/>
            <a:ext cx="7674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About I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569880" y="1916280"/>
            <a:ext cx="788976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orld-leading provider of software development tools for embedd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Gill Sans MT"/>
              </a:rPr>
              <a:t>Founded in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bout 150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bedded Workbenches support more than 26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From 8- to 32-bi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Easy migration from one targe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Largest customer base of development tools in the MC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10 000+ customers with active support 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92 % recurring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65 % of customers use more than one EW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About IAR Embedded Workbench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pic>
        <p:nvPicPr>
          <p:cNvPr id="533" name="Group 117" descr=""/>
          <p:cNvPicPr/>
          <p:nvPr/>
        </p:nvPicPr>
        <p:blipFill>
          <a:blip r:embed="rId1"/>
          <a:stretch/>
        </p:blipFill>
        <p:spPr>
          <a:xfrm>
            <a:off x="201600" y="2157480"/>
            <a:ext cx="87710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ARM Core Suppor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18920" y="2057400"/>
            <a:ext cx="225396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15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9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8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7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5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R4(F)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4(F)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3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1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0+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0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36" name="Content Placeholder 1"/>
          <p:cNvSpPr/>
          <p:nvPr/>
        </p:nvSpPr>
        <p:spPr>
          <a:xfrm>
            <a:off x="2935440" y="2057400"/>
            <a:ext cx="22510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9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ecur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ntel X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tent Placeholder 1"/>
          <p:cNvSpPr/>
          <p:nvPr/>
        </p:nvSpPr>
        <p:spPr>
          <a:xfrm>
            <a:off x="4952880" y="2057400"/>
            <a:ext cx="35038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upport for ARM,  Thumb and Thumb2 processor m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upport for ARM DSP and SIMD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ntrinsic NE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Generates code for ARM VFP series of floating-point co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High-performance C/C++ compiler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4260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Gill Sans MT"/>
              </a:rPr>
              <a:t>Optimizing C/C++ compiler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Language standards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89 and C99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++ 2003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Embedded C++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ARM EABI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MSIS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IEEE-754 floating point representation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85748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Gill Sans MT"/>
              </a:rPr>
              <a:t>Customizable C/C++ libraries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Gill Sans MT"/>
              </a:rPr>
              <a:t>Pre-built and in source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Thread safe libraries for multitasking applications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MSIS DSP Library for Cortex-M3/M4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Automatic selection of smallest printf/scanf formatter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Comprehensive IAR C-SPY Debugger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42960" y="2500200"/>
            <a:ext cx="354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Integrated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Fully integrated debugger for source and disassembly debugging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Simulator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Built-in instruction simulator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Hardware debugging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Extensive hardware target system support including JTAG, SWD and ETM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RTOS awareness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Kernel awareness plugins for debugging systems using RTOS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Macro system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C like macro system extends debugger capabilities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</p:txBody>
      </p:sp>
      <p:pic>
        <p:nvPicPr>
          <p:cNvPr id="543" name="Picture 2" descr="O:\My Documents\Marketing\marketing material\Screen shots\C-SPY.tif"/>
          <p:cNvPicPr/>
          <p:nvPr/>
        </p:nvPicPr>
        <p:blipFill>
          <a:blip r:embed="rId1"/>
          <a:stretch/>
        </p:blipFill>
        <p:spPr>
          <a:xfrm>
            <a:off x="4229280" y="2590920"/>
            <a:ext cx="4624200" cy="2795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Hardware debug suppor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grpSp>
        <p:nvGrpSpPr>
          <p:cNvPr id="545" name="Group 6"/>
          <p:cNvGrpSpPr/>
          <p:nvPr/>
        </p:nvGrpSpPr>
        <p:grpSpPr>
          <a:xfrm>
            <a:off x="2135160" y="2819520"/>
            <a:ext cx="5396040" cy="2447640"/>
            <a:chOff x="2135160" y="2819520"/>
            <a:chExt cx="5396040" cy="2447640"/>
          </a:xfrm>
        </p:grpSpPr>
        <p:pic>
          <p:nvPicPr>
            <p:cNvPr id="546" name="Picture 2" descr="http://ftp.iar.se/WWWfiles/Corporate_design_guide/Kit_images/Web/J-Trace/IAR_JTRACE_CM3.jpg"/>
            <p:cNvPicPr/>
            <p:nvPr/>
          </p:nvPicPr>
          <p:blipFill>
            <a:blip r:embed="rId1"/>
            <a:srcRect l="6777" t="11567" r="2407" b="26843"/>
            <a:stretch/>
          </p:blipFill>
          <p:spPr>
            <a:xfrm>
              <a:off x="2135160" y="2819520"/>
              <a:ext cx="539604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4"/>
            <p:cNvSpPr/>
            <p:nvPr/>
          </p:nvSpPr>
          <p:spPr>
            <a:xfrm>
              <a:off x="2135160" y="2819520"/>
              <a:ext cx="5396040" cy="24476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 txBox="1"/>
          <p:nvPr/>
        </p:nvSpPr>
        <p:spPr>
          <a:xfrm>
            <a:off x="64260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TM Trace suppor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Full instruction 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Complex start and stop trigger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Trace prob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JTAG/SWD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WO 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Link and IAR J-Link Ultra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Third party probe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mages are exportable to third party debugger systems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Direct flash erase and download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85748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vailable hardware drivers: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T I-jet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Link and IAR J-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RDI (Remote Debug Interface)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Macgraigor JTAG probe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GDB serve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T-LINK JTAG prob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T-LINK V2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TI Stellaris FTDI JTAG interf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XDS100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Angel debug monito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P&amp;E micro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ROM-monito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12:59Z</dcterms:modified>
  <cp:revision>235</cp:revision>
  <dc:subject/>
  <dc:title>Slide 1</dc:title>
</cp:coreProperties>
</file>