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D5AA-8D37-441E-87D2-A924B0157EC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1DBE-C211-4029-90A1-6F8C6808B88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7EB-D71D-4C53-8135-75A29329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0DB-6487-4455-87CE-BEF30334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7D8-1D0D-4CDE-A335-D3CE63AD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949-1833-4322-99E0-96D83C92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FB5-A3B4-46D3-97CA-CD194133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688-8427-4220-BFCC-28CDCA31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BFF-A282-456D-A7C4-634A3EEA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DE9-EFF7-4A0D-B195-FAEEEFDB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D27-94D5-4EBB-9263-8668722A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1D6-952E-454F-9995-BA709B6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2B5-4681-4DE5-9233-6119BC10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A66-7470-4485-9808-DF3F1B3C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3FA5-E54E-4221-86AE-D94730785A14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3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Creating our own MQX bas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585880"/>
            <a:ext cx="5715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Create a new EWARM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dd MQX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dd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Setting up project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Build and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642960" y="857160"/>
            <a:ext cx="6357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Some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42960" y="2286000"/>
            <a:ext cx="77151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hen creating an MQX based project there are many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ngs we need to cons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e will not worry about most of them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ut just the few mentioned below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Use a EWARM Workspace with only the application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   or the application and MQX library?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Using batch builds or not?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hat libraries/modules of MQX will I be u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8" name="Title 1"/>
          <p:cNvSpPr/>
          <p:nvPr/>
        </p:nvSpPr>
        <p:spPr>
          <a:xfrm>
            <a:off x="642960" y="857160"/>
            <a:ext cx="6357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What we will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42960" y="2286000"/>
            <a:ext cx="7715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reate a Workspace with just our own MQX base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dd libraries and create our MQX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t up our project options</a:t>
            </a: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uild and debug ou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dd the BSP and PSP library projects to our Work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reate one Debug and one Release Batch build for ou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1" name="Title 1"/>
          <p:cNvSpPr/>
          <p:nvPr/>
        </p:nvSpPr>
        <p:spPr>
          <a:xfrm>
            <a:off x="642960" y="154080"/>
            <a:ext cx="63579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Our MQX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642960" y="1582560"/>
            <a:ext cx="771516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Our example application will be very similar to the Hello2 example application included in MQ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 will however create our own project from scratch in order to se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ll the steps needed to create your own MQX based applica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t a minimum we will need to define one task and the the array “MQX_template_li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Our application will have two task. One that start automatically, and the other is created and started by the first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4" name="Title 1"/>
          <p:cNvSpPr/>
          <p:nvPr/>
        </p:nvSpPr>
        <p:spPr>
          <a:xfrm>
            <a:off x="642960" y="476280"/>
            <a:ext cx="5857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L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68360" y="1484280"/>
            <a:ext cx="7715160" cy="41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o far we have only built libraries for MQX and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have not had to consider linking our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o make sure that all the parts of MQX and our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pplication is located correctly in memory w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use the linker configuration file (*.ic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asiest is to use one of the premade ICF file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EWARM and MQX located at;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“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qx\source\bsp\twrk60n512\iar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example “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intflash.icf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8" name="Title 1"/>
          <p:cNvSpPr/>
          <p:nvPr/>
        </p:nvSpPr>
        <p:spPr>
          <a:xfrm>
            <a:off x="642960" y="476280"/>
            <a:ext cx="5857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memory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2124000" y="4060800"/>
            <a:ext cx="3456000" cy="18208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X_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MPROT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int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2124000" y="1387440"/>
            <a:ext cx="3456000" cy="2435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_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_DEFAULT_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ector_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324000" y="4060800"/>
            <a:ext cx="1726920" cy="18208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0007 FF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0000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324000" y="1387440"/>
            <a:ext cx="1726920" cy="2191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2000 FFF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FFF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ular Callout 1"/>
          <p:cNvSpPr/>
          <p:nvPr/>
        </p:nvSpPr>
        <p:spPr>
          <a:xfrm>
            <a:off x="6084720" y="3213000"/>
            <a:ext cx="2664000" cy="432000"/>
          </a:xfrm>
          <a:prstGeom prst="wedgeRoundRectCallout">
            <a:avLst>
              <a:gd name="adj1" fmla="val -160949"/>
              <a:gd name="adj2" fmla="val -6995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First in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ular Callout 9"/>
          <p:cNvSpPr/>
          <p:nvPr/>
        </p:nvSpPr>
        <p:spPr>
          <a:xfrm>
            <a:off x="6084720" y="1341360"/>
            <a:ext cx="2664000" cy="432000"/>
          </a:xfrm>
          <a:prstGeom prst="wedgeRoundRectCallout">
            <a:avLst>
              <a:gd name="adj1" fmla="val -146736"/>
              <a:gd name="adj2" fmla="val -6995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Last in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ular Callout 10"/>
          <p:cNvSpPr/>
          <p:nvPr/>
        </p:nvSpPr>
        <p:spPr>
          <a:xfrm>
            <a:off x="6237360" y="5445000"/>
            <a:ext cx="2511360" cy="432000"/>
          </a:xfrm>
          <a:prstGeom prst="wedgeRoundRectCallout">
            <a:avLst>
              <a:gd name="adj1" fmla="val -176162"/>
              <a:gd name="adj2" fmla="val 11958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Always at address 0x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ular Callout 11"/>
          <p:cNvSpPr/>
          <p:nvPr/>
        </p:nvSpPr>
        <p:spPr>
          <a:xfrm>
            <a:off x="6237360" y="4060800"/>
            <a:ext cx="2511360" cy="433440"/>
          </a:xfrm>
          <a:prstGeom prst="wedgeRoundRectCallout">
            <a:avLst>
              <a:gd name="adj1" fmla="val -134328"/>
              <a:gd name="adj2" fmla="val -19629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Last in ROM/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8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5:05Z</dcterms:modified>
  <cp:revision>211</cp:revision>
  <dc:subject/>
  <dc:title>Slide 1</dc:title>
</cp:coreProperties>
</file>