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B480-8DBD-426D-9BBF-B51608EFF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7BF6-568D-4851-A2B7-45B89DF9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80D3-5FF3-402F-81BE-7AE73408E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6631-B2A8-47AF-B56D-8B503F24C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75B4-4338-4000-8768-B1941C655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94AD-6AA7-433C-B32B-CC19124F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7A0C-DA57-4C5D-8E62-E4DF489E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1BD0-8052-448E-A5EB-537B43BC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3896-E13A-4E1C-A70E-E30F6330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D464-4B09-438C-9469-57F2F197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B213-0646-4964-BCF0-60D9BF41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FA3F-452D-434A-BA13-D8296557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4F6B-B93D-4924-9B7A-756B59074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80880"/>
            <a:ext cx="838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nts: Arial 12pt          Lines: 1.75pt          Zoom: 66%          width: Preferred &lt;518px; Max 560p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477120" y="3505320"/>
            <a:ext cx="5331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2819520"/>
            <a:ext cx="1828800" cy="1371600"/>
          </a:xfrm>
          <a:prstGeom prst="rect">
            <a:avLst/>
          </a:prstGeom>
          <a:solidFill>
            <a:srgbClr val="e0e0e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PC23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M7 Bas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controll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505320"/>
            <a:ext cx="6858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91120" y="3124080"/>
            <a:ext cx="533160" cy="762120"/>
          </a:xfrm>
          <a:prstGeom prst="rect">
            <a:avLst/>
          </a:prstGeom>
          <a:solidFill>
            <a:srgbClr val="e0e0e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3505320"/>
            <a:ext cx="83844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000" y="3200400"/>
            <a:ext cx="59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ART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0560" y="3200400"/>
            <a:ext cx="49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C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5295600" y="2933640"/>
            <a:ext cx="1219320" cy="1143000"/>
          </a:xfrm>
          <a:prstGeom prst="triangle">
            <a:avLst>
              <a:gd name="adj" fmla="val 50000"/>
            </a:avLst>
          </a:prstGeom>
          <a:solidFill>
            <a:srgbClr val="e0e0e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09000" y="3276720"/>
            <a:ext cx="68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lif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3505320"/>
            <a:ext cx="60984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ound"/>
          <p:cNvSpPr/>
          <p:nvPr/>
        </p:nvSpPr>
        <p:spPr>
          <a:xfrm>
            <a:off x="7010280" y="2971800"/>
            <a:ext cx="1067040" cy="1123920"/>
          </a:xfrm>
          <a:prstGeom prst="pie">
            <a:avLst/>
          </a:prstGeom>
          <a:solidFill>
            <a:srgbClr val="e0e0e8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91120" y="3276720"/>
            <a:ext cx="53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19:33:50Z</dcterms:created>
  <dc:creator>Brett Duke</dc:creator>
  <dc:description/>
  <dc:language>en-US</dc:language>
  <cp:lastModifiedBy>Jim Earle</cp:lastModifiedBy>
  <dcterms:modified xsi:type="dcterms:W3CDTF">2007-12-17T13:39:53Z</dcterms:modified>
  <cp:revision>35</cp:revision>
  <dc:subject/>
  <dc:title>Generic Block Diagram</dc:title>
</cp:coreProperties>
</file>